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1E657-88D4-4B43-81A5-C9D4C8A3A1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9048F-9856-4FD8-AC44-A09BE7440A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56EA-F64E-48FD-AEA2-C9213F1A8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88A8-B99E-47A4-8224-F613C44B8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3FF9-51CC-4559-87C1-EDE29BC92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37F4-9E6E-4225-8C16-EF13716CD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F182-A334-4586-B2E5-7D80E509F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D955-5F37-4E1C-890C-B52E71D0B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537B-29AC-4A9D-ACA6-EE644F845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7FE8-1C25-4AE7-87DA-FF400973D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A6DE-11C3-4A95-8165-D2A07E475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49D9-E8BE-4737-BB58-42FFCA7B5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2587-27CC-48D7-BDC4-9B9940700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DD7D-FFF0-4974-A701-79BEB07BC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D3A49-93EA-4613-B546-E352286FA6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Bruna Parrei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Kiara Zapanta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Kiara Zapant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Kiara Zapant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2670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05320"/>
            <a:ext cx="17528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Mi nombre es Bruna. Yo vivo en New York. Tengo 14 años. Estoy feliz y cansada. Amo música. Yo no tengo hermano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449280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572000"/>
            <a:ext cx="536760" cy="78120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55948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572000"/>
            <a:ext cx="439560" cy="62856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74320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 Hola Katy, si yo quiero comer helados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0988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Hola, Bruna tú quieres comer helados hoy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Andrea Chaves</cp:lastModifiedBy>
  <dcterms:modified xsi:type="dcterms:W3CDTF">2012-12-05T14:50:32Z</dcterms:modified>
  <cp:revision>102</cp:revision>
  <dc:subject/>
  <dc:title>Profile</dc:title>
</cp:coreProperties>
</file>